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ff"/>
              </a:solidFill>
              <a:latin typeface="Arial"/>
            </a:endParaRPr>
          </a:p>
        </p:txBody>
      </p:sp>
      <p:sp>
        <p:nvSpPr>
          <p:cNvPr id="4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move the slide</a:t>
            </a:r>
            <a:endParaRPr b="0" lang="en-US" sz="3000" spc="-1" strike="noStrike">
              <a:solidFill>
                <a:srgbClr val="4e5b6f"/>
              </a:solidFill>
              <a:latin typeface="Arial"/>
            </a:endParaRPr>
          </a:p>
        </p:txBody>
      </p:sp>
      <p:sp>
        <p:nvSpPr>
          <p:cNvPr id="4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Bölüm IX</a:t>
            </a:r>
            <a:endParaRPr b="0" lang="en-US" sz="1200" spc="-1" strike="noStrike">
              <a:solidFill>
                <a:srgbClr val="000000"/>
              </a:solidFill>
              <a:latin typeface="Times New Roman"/>
            </a:endParaRPr>
          </a:p>
        </p:txBody>
      </p:sp>
      <p:sp>
        <p:nvSpPr>
          <p:cNvPr id="42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6D46-C168-444C-8D60-83F93831DFA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6EBB-E508-4241-9E39-2DD5EB5A7C0E}"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2FB6-D9BC-4537-8757-60B0637BCF49}"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1885-9282-4FB9-BB3B-1B5E5D188656}"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C88F-F13D-4CE1-BC44-D1CFAC7CF154}"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D4CB-E659-498E-85DB-ED47B1726AC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F8DC-0D47-4F4B-A5B6-C4094B82BB9C}"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3F26-252F-4D9D-82FB-B1CE0005271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05E1-349E-437A-82AC-F44C1E849F0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8173-EA9B-4562-BEF3-7FEE00CBDDE4}"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6E72-5CC5-4752-A9C2-4FD9963B781E}"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1885-B07B-4BE3-88E1-21592460B2F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853FC-DA71-4317-992C-86169F159823}"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C4FDB-8D95-4A16-BAF4-080C36BB48FF}"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9BF6-A415-493E-A3EF-96A7671055C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11BB-82A4-4C01-97C9-7BB16C836EC7}"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FCF4-D124-402B-BDE3-E934DE8F5EA2}"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62B0-AED8-4630-B158-EF29DC7AF5CB}"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8309-E687-4717-8CCF-E27AA88BBDDE}"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FBE3-77CB-4876-BF70-175E415565F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5779-8239-4E8F-ADCB-D019E1C1933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FC98-D573-485E-A443-0018EC1FB986}"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37FF-90C5-4C64-8E1B-7A2F0ADD3AD4}"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0035-9E59-4D32-B6E6-3208D601289A}"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0C65-D8EA-4363-ABEB-0232085CCAE2}"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323F-FAFB-474D-A657-78416EC19027}"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34684-EF7A-4B7F-AA46-888789FD8858}"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B048C-A1BD-496B-88E6-C0154AB47A1C}"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4D26-2643-4EC3-A7A6-E44E6BEEFAE5}"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7243-CFCB-4AE4-A1D0-FAFAFA16C047}"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AF24-EDA1-4A5C-A60B-66BBAE5FAC73}"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17F5-4584-4F27-8DC8-167838C53312}"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3333ff"/>
                </a:solidFill>
                <a:latin typeface="Arial"/>
              </a:rPr>
              <a:t>Bölüm IX</a:t>
            </a:r>
            <a:endParaRPr b="0" lang="en-US" sz="1200" spc="-1" strike="noStrike">
              <a:solidFill>
                <a:srgbClr val="3333ff"/>
              </a:solidFill>
              <a:latin typeface="Arial"/>
            </a:endParaRPr>
          </a:p>
        </p:txBody>
      </p:sp>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6F2E-3921-4C5E-95D5-39EE6290063F}" type="slidenum">
              <a:rPr b="0" lang="tr-TR" sz="1200" spc="-1" strike="noStrike">
                <a:solidFill>
                  <a:srgbClr val="3333ff"/>
                </a:solidFill>
                <a:latin typeface="Arial"/>
              </a:rPr>
              <a:t>&lt;number&gt;</a:t>
            </a:fld>
            <a:endParaRPr b="0" lang="en-US" sz="1200" spc="-1" strike="noStrike">
              <a:solidFill>
                <a:srgbClr val="3333ff"/>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EE81D-B96E-42A1-9858-4EC35A3EF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7E8EF-8C7E-4765-AB7F-F4227597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D885C-6DD5-497A-8F15-5A8D9C726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4F7EE-CD54-40F9-8AA4-C49B83E1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86889-EDE6-4049-B3FD-C4B12FCB7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5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55C73-EF06-4DCE-A8FB-AEC211ECA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5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32419-45E0-41C5-99F7-C55D531D4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CBA41-CD88-442E-BA10-CEF97FB17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D1AC0-E999-4B2B-9048-45892411C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3AAD9-871A-4F29-A530-D530FD9DD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04E70-F136-4C30-B811-8349E0FE3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F0CA-0720-4FEB-B183-95BBBC761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6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D0D1-D277-4BC2-A174-885C55091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1E310-466B-42A0-94E9-75A3EB3EC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7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40E9F-FECB-49CC-B000-6E60BD419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4A9C20-937C-4382-B719-55B9E27E9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8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B6628-1F82-4676-8EB5-E7BEE4BDF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4D9E00-59F3-45BE-B965-400951C97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C663A-0496-4CFC-9DEF-252CC485E6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994FAE-E93F-4D6C-ABE3-8BC75E1CF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1E0A7-5F53-406F-AFBB-04152EAAC0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077836-DFA6-4F15-9F71-94A778A29F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60A4-0ADA-467A-9630-FDF34B959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0133B1-2573-4273-AAB9-3B10C5281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4BCDC-75CC-4D4A-A286-A463B9E728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C57D1C-644F-4D62-A0B4-1BF56140F5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AE2FA-20BF-4043-8CC4-A734A2EC0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74AC7-FC23-45C4-BB24-52CEE2B9D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95CC20-2887-4B43-B280-48E1F0711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C81449-4256-40E0-A705-8300ED9430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A3A4AA-1A28-4EC7-BFB3-1DA64A6EE5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D19F60D-169C-4952-87E3-A4B5C1D78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C4CD71-B027-43B1-9650-BFC12A9477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9245-A1A8-4833-84C8-6E54B2512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1653AB-6D81-4CD6-95B2-130BE36E3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8A746A-71FF-49C4-A5F2-E168FA207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E97A590-1CA6-41E3-8B47-04F920298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EE7AF8-05B2-4B58-9F60-E1F6C22B3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7B8C8BB-6099-4837-A31A-98B741319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182A32-02F6-458D-898E-E9731E713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99FBA4-BA5C-4010-9DFB-EC71C635F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F8B6D6-C90F-4752-8F18-7ABAC6E99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F9CF375-A0AD-4EEE-9197-FE6CA7F06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ECD6EE-4B2C-41A9-A04F-C812A052E7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CFC64-21C7-4D49-82B2-043259E0A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2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D35370-B715-4729-B90E-8DFAB1DF0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2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3D4D7-CB12-4AEE-B709-4D20AC4C7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9C367-A179-49A2-B8CC-FD2BCE0648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F43B2-FE26-4C74-B18B-D9AB3CBF2C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583D4-5987-407C-A4C0-162C91225E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8BE72C-BE8D-45E4-BDCC-4681BFFBE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5B6BA-91B9-4D83-AEC4-7CAF78FEA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4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BDBD5-51A9-47AA-BD90-12B9A6A12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4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FD7A59-886E-4855-B6CB-04FDC12104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5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A29296-7DD0-47E2-8280-A107CC134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3A340-7D0C-4024-A5E8-D44206534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5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FA6433-78DD-4E13-A899-EC632154F5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5EFC924-31A8-4D89-9EB9-F4E9512900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E458A67-B5BE-492C-B824-5E06534A0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566E248-0324-445E-9393-38E5E8A42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F41DF92-F47E-4015-AB6F-19349318D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0990E1F-B264-443F-9963-DB8A8242D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3C32D9-2531-4DC6-B0DC-92E7D382BF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4D5C2B-374D-42E0-8EB3-CD746D1160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899B32-D938-4449-877F-9417628D9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E7907D5-D426-4873-BF2F-BAA8B35A9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1244-1A11-4FE1-937E-97E18845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3E7305-4330-404B-90DC-6A9CB9A89C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6D1D379-4F82-4B22-B53C-B1AB4ADE77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671F86E-245B-4AFE-83BD-094EDAA2246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6A3A684-A39D-40B1-A173-45D6F8466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2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062FE9D-CC09-4798-802B-9E414B8353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2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637C0F-9173-4521-B3F3-62BBB3A8A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29A345-416C-4E8C-A3B6-034017C1C7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4E5608-332D-4593-AFB2-DC7D554F3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D3A29EB-4188-4099-8627-303E58B05C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CE8D971-7576-4DBE-96C6-9003CFE74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1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A006-3D96-4CDA-AEDE-370DB249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4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E79007E-7ECF-4462-9010-22F1AA82E1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BCD202-DDDD-45BD-9414-AF503ECA9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4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143BD09-B7CE-47AD-94C3-7CA6BD70C8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5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D47796D-BE2F-4D71-9E2C-B13681FF22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5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DC68D64-5686-4B78-91C0-B140C08AC2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88585C2-4981-4944-B6A7-B72AF4CC46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8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6D8B292-DC40-43D6-A0AB-6D03423E4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8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B45D0A8-AEBA-4ABD-BF78-239658F78C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8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9518736-4EC8-4510-96BD-84AD3249E6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7F7C4F0-909B-4930-85FC-E802812638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2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28ED-B76E-4C55-B47F-DB254CC1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EA8CEAE-F4DE-4BC6-B33F-FDD23B84EF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0BBFE46-6D17-48EA-BDA9-FFE43FA8A4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9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97F9638-7B42-4F7C-A61B-9A9A00FEC2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39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06370A5-34D5-46CA-94E0-AFD502C3AF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40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A63DEBA-11E4-4A7C-8D21-079A0423B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40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F53B918F-5451-486A-91B3-B1F9637233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Arial"/>
            </a:endParaRPr>
          </a:p>
        </p:txBody>
      </p:sp>
      <p:sp>
        <p:nvSpPr>
          <p:cNvPr id="41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70970C05-C27A-4C2A-A611-C26D5E33002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deff"/>
            </a:gs>
            <a:gs pos="100000">
              <a:srgbClr val="60606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3333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3333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E99A-8D6F-4ABF-B460-90A8F9804F7F}" type="datetime">
              <a:rPr b="0" lang="tr-TR" sz="1200" spc="-1" strike="noStrike">
                <a:solidFill>
                  <a:srgbClr val="79551b"/>
                </a:solidFill>
                <a:latin typeface="Palatino Linotype"/>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E1AD-0189-4068-9110-CA46A0A42D65}" type="slidenum">
              <a:rPr b="0" lang="tr-TR"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1"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4" name="PlaceHolder 3"/>
          <p:cNvSpPr>
            <a:spLocks noGrp="1"/>
          </p:cNvSpPr>
          <p:nvPr>
            <p:ph type="dt" idx="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5443-DE5B-4C32-BEF6-64E2A5206F8F}"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6"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47"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48"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9"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50"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51" name="PlaceHolder 5"/>
          <p:cNvSpPr>
            <a:spLocks noGrp="1"/>
          </p:cNvSpPr>
          <p:nvPr>
            <p:ph type="sldNum" idx="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19B4-C6C7-44C7-85B0-5A3D4D579D13}"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88"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89"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0"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1"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2"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3"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4" name="12 Dikdörtgen"/>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5" name="14 Dikdörtgen"/>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6" name="16 Dikdörtgen"/>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7" name="17 Dikdörtgen"/>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98" name="18 Düz Bağlayıcı"/>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99" name="19 Düz Bağlayıcı"/>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0" name="20 Düz Bağlayıcı"/>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1" name="23 Düz Bağlayıcı"/>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2" name="24 Düz Bağlayıcı"/>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3" name="25 Düz Bağlayıcı"/>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04" name="26 Dikdörtgen"/>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5" name="27 Oval"/>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6" name="28 Oval"/>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7" name="29 Oval"/>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8" name="30 Oval"/>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09" name="31 Oval"/>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12" name="PlaceHolder 3"/>
          <p:cNvSpPr>
            <a:spLocks noGrp="1"/>
          </p:cNvSpPr>
          <p:nvPr>
            <p:ph type="dt" idx="7"/>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6C98-8D24-436F-ABE9-94737500520C}"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113" name="PlaceHolder 4"/>
          <p:cNvSpPr>
            <a:spLocks noGrp="1"/>
          </p:cNvSpPr>
          <p:nvPr>
            <p:ph type="ftr" idx="8"/>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14" name="PlaceHolder 5"/>
          <p:cNvSpPr>
            <a:spLocks noGrp="1"/>
          </p:cNvSpPr>
          <p:nvPr>
            <p:ph type="sldNum" idx="9"/>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E5F4-E98C-4FED-A77B-440B4FE58B7D}"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151"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2"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3"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4"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55"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56"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1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1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59"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AD96-A473-49FA-B0A4-F9F896DAF2D1}"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160" name="PlaceHolder 4"/>
          <p:cNvSpPr>
            <a:spLocks noGrp="1"/>
          </p:cNvSpPr>
          <p:nvPr>
            <p:ph type="sldNum" idx="11"/>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33E6-AAC2-416A-87B3-1FAE5315FADA}"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61" name="PlaceHolder 5"/>
          <p:cNvSpPr>
            <a:spLocks noGrp="1"/>
          </p:cNvSpPr>
          <p:nvPr>
            <p:ph type="ftr" idx="1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198"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199"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0"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1"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2"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3"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4" name="12 Dikdörtgen"/>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5" name="14 Dikdörtgen"/>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6" name="16 Dikdörtgen"/>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7" name="17 Dikdörtgen"/>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08" name="18 Düz Bağlayıcı"/>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09" name="19 Düz Bağlayıcı"/>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0" name="20 Düz Bağlayıcı"/>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1" name="23 Düz Bağlayıcı"/>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2" name="24 Düz Bağlayıcı"/>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13" name="25 Dikdörtgen"/>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4" name="26 Oval"/>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5" name="27 Oval"/>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6" name="28 Oval"/>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7" name="29 Oval"/>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8" name="30 Oval"/>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19" name="31 Düz Bağlayıcı"/>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22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22" name="PlaceHolder 3"/>
          <p:cNvSpPr>
            <a:spLocks noGrp="1"/>
          </p:cNvSpPr>
          <p:nvPr>
            <p:ph type="dt" idx="13"/>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61CC-1795-4623-BA92-363FE06CC119}"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223" name="PlaceHolder 4"/>
          <p:cNvSpPr>
            <a:spLocks noGrp="1"/>
          </p:cNvSpPr>
          <p:nvPr>
            <p:ph type="ftr" idx="14"/>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24" name="PlaceHolder 5"/>
          <p:cNvSpPr>
            <a:spLocks noGrp="1"/>
          </p:cNvSpPr>
          <p:nvPr>
            <p:ph type="sldNum" idx="15"/>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4030-74C8-4E5A-8C67-060B163E2C77}"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261"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2"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3"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4"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65"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266"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2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69"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CC3F-D05D-4735-8AD0-C69635A9CDEE}"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270"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F0E4-5D3B-474A-8841-F16C367CEADC}"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71"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308"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09"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0"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1"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12"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3"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14" name="12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5" name="14 Düz Bağlayıcı"/>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6" name="16 Düz Bağlayıcı"/>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7" name="17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18" name="18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19" name="19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20" name="20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3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23"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7448-3DB7-4202-BD64-0224630E0BFE}"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324"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1C68-EA2B-4BCE-8E9B-F4238268BA2F}"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25"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362" name="15 Düz Bağlayıcı"/>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3" name="6 Düz Bağlayıcı"/>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4" name="8 Düz Bağlayıcı"/>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5" name="9 Dikdörtgen"/>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66" name="10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7" name="11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68" name="12 Düz Bağlayıcı"/>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69" name="14 Oval"/>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70" name="16 Düz Bağlayıcı"/>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1" name="17 Dikdörtgen"/>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372" name="18 Düz Bağlayıcı"/>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3" name="19 Düz Bağlayıcı"/>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4" name="20 Düz Bağlayıcı"/>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3333ff"/>
              </a:solidFill>
              <a:latin typeface="Arial"/>
            </a:endParaRPr>
          </a:p>
        </p:txBody>
      </p:sp>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Arial"/>
              </a:rPr>
              <a:t>Click to edit the title text format</a:t>
            </a:r>
            <a:endParaRPr b="0" lang="en-US" sz="3000" spc="-1" strike="noStrike">
              <a:solidFill>
                <a:srgbClr val="4e5b6f"/>
              </a:solidFill>
              <a:latin typeface="Arial"/>
            </a:endParaRPr>
          </a:p>
        </p:txBody>
      </p:sp>
      <p:sp>
        <p:nvSpPr>
          <p:cNvPr id="37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77"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4e5b6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77F5-9723-4749-8718-87D14A5CA530}" type="datetime">
              <a:rPr b="0" lang="tr-TR" sz="1200" spc="-1" strike="noStrike">
                <a:solidFill>
                  <a:srgbClr val="4e5b6f"/>
                </a:solidFill>
                <a:latin typeface="Times New Roman"/>
              </a:rPr>
              <a:t>28.07.26</a:t>
            </a:fld>
            <a:endParaRPr b="0" lang="en-US" sz="1200" spc="-1" strike="noStrike">
              <a:solidFill>
                <a:srgbClr val="000000"/>
              </a:solidFill>
              <a:latin typeface="Times New Roman"/>
            </a:endParaRPr>
          </a:p>
        </p:txBody>
      </p:sp>
      <p:sp>
        <p:nvSpPr>
          <p:cNvPr id="378"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3163-B7CA-4A92-8999-91BF5B6AD5B8}" type="slidenum">
              <a:rPr b="1" lang="tr-T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79"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42720" y="1071720"/>
            <a:ext cx="6172200" cy="189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tr-TR" sz="4000" spc="-1" strike="noStrike">
                <a:solidFill>
                  <a:srgbClr val="4e5b6f"/>
                </a:solidFill>
                <a:latin typeface="Arial"/>
              </a:rPr>
              <a:t>BİREY VE GRUPLARLA ÇALIŞMA</a:t>
            </a:r>
            <a:endParaRPr b="0" lang="en-US" sz="4000" spc="-1" strike="noStrike">
              <a:solidFill>
                <a:srgbClr val="4e5b6f"/>
              </a:solidFill>
              <a:latin typeface="Arial"/>
            </a:endParaRPr>
          </a:p>
        </p:txBody>
      </p:sp>
      <p:sp>
        <p:nvSpPr>
          <p:cNvPr id="424" name="PlaceHolder 2"/>
          <p:cNvSpPr>
            <a:spLocks noGrp="1"/>
          </p:cNvSpPr>
          <p:nvPr>
            <p:ph type="subTitle"/>
          </p:nvPr>
        </p:nvSpPr>
        <p:spPr>
          <a:xfrm>
            <a:off x="2285640" y="3571560"/>
            <a:ext cx="6172200" cy="28033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Times New Roman"/>
              </a:rPr>
              <a:t>Necmettin TÜRKMEN</a:t>
            </a: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Times New Roman"/>
              </a:rPr>
              <a:t>Emine BORAN</a:t>
            </a: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002060"/>
                </a:solidFill>
                <a:latin typeface="Times New Roman"/>
              </a:rPr>
              <a:t>Oya KARADENİZ</a:t>
            </a:r>
            <a:endParaRPr b="0" lang="en-US" sz="3000" spc="-1" strike="noStrike">
              <a:solidFill>
                <a:srgbClr val="000000"/>
              </a:solidFill>
              <a:latin typeface="Times New Roman"/>
            </a:endParaRPr>
          </a:p>
        </p:txBody>
      </p:sp>
      <p:sp>
        <p:nvSpPr>
          <p:cNvPr id="425" name="3 Veri Yer Tutucusu"/>
          <p:cNvSpPr/>
          <p:nvPr/>
        </p:nvSpPr>
        <p:spPr>
          <a:xfrm rot="5400000">
            <a:off x="7764480" y="1174680"/>
            <a:ext cx="2286000" cy="3808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5FB98-0EF5-451C-9B46-88F580C8F3C9}"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26" name="5 Slayt Numarası Yer Tutucusu"/>
          <p:cNvSpPr/>
          <p:nvPr/>
        </p:nvSpPr>
        <p:spPr>
          <a:xfrm>
            <a:off x="1325520" y="4929120"/>
            <a:ext cx="609480" cy="517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80EF-CFE1-48F0-8A59-D86CF8FAD610}"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6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F787-119C-413C-B239-8B493D8660CB}"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6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5CC7-2778-4826-B936-8CCB2CDFFE47}"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67" name="Text Box 3"/>
          <p:cNvSpPr/>
          <p:nvPr/>
        </p:nvSpPr>
        <p:spPr>
          <a:xfrm>
            <a:off x="1979640" y="2224080"/>
            <a:ext cx="3960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68" name="2 İçerik Yer Tutucusu"/>
          <p:cNvSpPr/>
          <p:nvPr/>
        </p:nvSpPr>
        <p:spPr>
          <a:xfrm>
            <a:off x="457200" y="1052640"/>
            <a:ext cx="8229600" cy="5256000"/>
          </a:xfrm>
          <a:prstGeom prst="rect">
            <a:avLst/>
          </a:prstGeom>
          <a:noFill/>
          <a:ln w="0">
            <a:noFill/>
          </a:ln>
        </p:spPr>
        <p:style>
          <a:lnRef idx="0"/>
          <a:fillRef idx="0"/>
          <a:effectRef idx="0"/>
          <a:fontRef idx="minor"/>
        </p:style>
        <p:txBody>
          <a:bodyPr lIns="90000" rIns="90000" tIns="46800" bIns="46800" anchor="t">
            <a:no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29516d"/>
                </a:solidFill>
                <a:latin typeface="Arial"/>
                <a:ea typeface="Times New Roman"/>
              </a:rPr>
              <a:t>   </a:t>
            </a:r>
            <a:r>
              <a:rPr b="0" lang="tr-TR" sz="3600" spc="-1" strike="noStrike">
                <a:solidFill>
                  <a:srgbClr val="29516d"/>
                </a:solidFill>
                <a:latin typeface="Arial"/>
                <a:ea typeface="Times New Roman"/>
              </a:rPr>
              <a:t>İyi bir şekilde uygulanan denetleme işlemi, bireyin gelişmesine yardımcı olur ve çalışmalarında değişiklikler yaratır.Teftişte en çok uygulanan yöntem bireylerin çalışmalarını gözleme, denetleme ve yardımcı olmayı kapsayan ziyaretlerdir</a:t>
            </a:r>
            <a:r>
              <a:rPr b="1" lang="tr-TR" sz="3600" spc="-1" strike="noStrike">
                <a:solidFill>
                  <a:srgbClr val="29516d"/>
                </a:solidFill>
                <a:latin typeface="Arial"/>
                <a:ea typeface="Times New Roman"/>
              </a:rPr>
              <a:t>.</a:t>
            </a:r>
            <a:endParaRPr b="0" lang="en-US" sz="3600" spc="-1" strike="noStrike">
              <a:solidFill>
                <a:srgbClr val="3333ff"/>
              </a:solidFill>
              <a:latin typeface="Arial"/>
            </a:endParaRPr>
          </a:p>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188640"/>
            <a:ext cx="8209080" cy="8665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1f2377"/>
                </a:solidFill>
                <a:latin typeface="Arial"/>
              </a:rPr>
              <a:t>BİREYLE ÇALIŞMADA DİKKAT EDİLECEK HUSUSLAR</a:t>
            </a:r>
            <a:endParaRPr b="0" lang="en-US" sz="2500" spc="-1" strike="noStrike">
              <a:solidFill>
                <a:srgbClr val="4e5b6f"/>
              </a:solidFill>
              <a:latin typeface="Arial"/>
            </a:endParaRPr>
          </a:p>
        </p:txBody>
      </p:sp>
      <p:sp>
        <p:nvSpPr>
          <p:cNvPr id="47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B88C-2CD1-4D7F-9105-F85226F15E4C}"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7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2E47-7935-4549-862B-DC32513A4EB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73" name="Text Box 4"/>
          <p:cNvSpPr/>
          <p:nvPr/>
        </p:nvSpPr>
        <p:spPr>
          <a:xfrm>
            <a:off x="755640" y="1125360"/>
            <a:ext cx="79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Çalışılan kişilerin küçümsenmemesi, çok                 abartılmadan değer verilmesi</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işilere güven duyulmalı,kuşkulu davranmadan her söylenen peşinen kabul edilmemeli</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Yaşlı kişilere ve bayanlara nazik davranılmalı, görevin gerekleri aranmalı</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işilerin olumlu davranışları takdir edilmeli</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işilerin hataları başkalarının yanında ortaya konulmamalı</a:t>
            </a:r>
            <a:endParaRPr b="0" lang="en-US" sz="3000" spc="-1" strike="noStrike">
              <a:solidFill>
                <a:srgbClr val="3333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94920" y="0"/>
            <a:ext cx="8209080" cy="10555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2377"/>
                </a:solidFill>
                <a:latin typeface="Arial"/>
              </a:rPr>
              <a:t>BİREYLE ÇALIŞMADA DİKKAT EDİLECEK HUSUSLAR</a:t>
            </a:r>
            <a:endParaRPr b="0" lang="en-US" sz="2800" spc="-1" strike="noStrike">
              <a:solidFill>
                <a:srgbClr val="4e5b6f"/>
              </a:solidFill>
              <a:latin typeface="Arial"/>
            </a:endParaRPr>
          </a:p>
        </p:txBody>
      </p:sp>
      <p:sp>
        <p:nvSpPr>
          <p:cNvPr id="47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17B9-F502-4132-A939-19CE63DCC167}"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7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AF8A8-9DFF-4821-A4AE-76F3CD992FEC}"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78" name="Text Box 4"/>
          <p:cNvSpPr/>
          <p:nvPr/>
        </p:nvSpPr>
        <p:spPr>
          <a:xfrm>
            <a:off x="755640" y="1125360"/>
            <a:ext cx="7993080" cy="47865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6.Kişilerin yetenek ve yeterlikleri göz önünde   bulundurulmalı</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7. Kişinin yetersizliği ya da problemleri koz olarak kullanılmamalı</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8. Kişi hakkında başkalarının görüşleri alındığında yergi içerikli söylemlerin kaynakları belirtilmemeli</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9. Kişiye karşı sabırlı olunmalı, sorularına yanıt verilmeli</a:t>
            </a:r>
            <a:endParaRPr b="0" lang="en-US" sz="28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10.Çalışma  yapılırken insan ilişkilerine önem verilmeli</a:t>
            </a:r>
            <a:endParaRPr b="0" lang="en-US" sz="2800" spc="-1" strike="noStrike">
              <a:solidFill>
                <a:srgbClr val="3333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4360" y="549000"/>
            <a:ext cx="7704000" cy="64764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1f2377"/>
                </a:solidFill>
                <a:latin typeface="Arial"/>
              </a:rPr>
              <a:t>BİREYLERLE GÖRÜŞME</a:t>
            </a:r>
            <a:endParaRPr b="0" lang="en-US" sz="3400" spc="-1" strike="noStrike">
              <a:solidFill>
                <a:srgbClr val="4e5b6f"/>
              </a:solidFill>
              <a:latin typeface="Arial"/>
            </a:endParaRPr>
          </a:p>
        </p:txBody>
      </p:sp>
      <p:sp>
        <p:nvSpPr>
          <p:cNvPr id="48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686CE-3E17-4F17-9859-97D8CEEC3EC5}"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8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80F7-B875-454E-BFB1-23D42CD0EEC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83" name="Rectangle 4"/>
          <p:cNvSpPr/>
          <p:nvPr/>
        </p:nvSpPr>
        <p:spPr>
          <a:xfrm>
            <a:off x="971640" y="1268280"/>
            <a:ext cx="7488000" cy="423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213b75"/>
                </a:solidFill>
                <a:latin typeface="Arial"/>
              </a:rPr>
              <a:t>Görüşme İlkeleri:</a:t>
            </a:r>
            <a:endParaRPr b="0" lang="en-US" sz="3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Tarafsızlık                   </a:t>
            </a:r>
            <a:endParaRPr b="0" lang="en-US" sz="4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Dinleme                      </a:t>
            </a:r>
            <a:endParaRPr b="0" lang="en-US" sz="4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Anlayış                                 </a:t>
            </a:r>
            <a:endParaRPr b="0" lang="en-US" sz="4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29516d"/>
                </a:solidFill>
                <a:latin typeface="Arial"/>
              </a:rPr>
              <a:t>                     </a:t>
            </a:r>
            <a:r>
              <a:rPr b="0" lang="tr-TR" sz="4000" spc="-1" strike="noStrike">
                <a:solidFill>
                  <a:srgbClr val="29516d"/>
                </a:solidFill>
                <a:latin typeface="Arial"/>
              </a:rPr>
              <a:t>İşbirliği</a:t>
            </a:r>
            <a:endParaRPr b="0" lang="en-US" sz="4000" spc="-1" strike="noStrike">
              <a:solidFill>
                <a:srgbClr val="3333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11280" y="259920"/>
            <a:ext cx="8137440" cy="93996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700" spc="-1" strike="noStrike">
                <a:solidFill>
                  <a:srgbClr val="1f2377"/>
                </a:solidFill>
                <a:latin typeface="Arial"/>
              </a:rPr>
              <a:t>GÖRÜŞMELERDE DİKKAT EDİLECEK HUSUSLAR</a:t>
            </a:r>
            <a:endParaRPr b="0" lang="en-US" sz="2700" spc="-1" strike="noStrike">
              <a:solidFill>
                <a:srgbClr val="4e5b6f"/>
              </a:solidFill>
              <a:latin typeface="Arial"/>
            </a:endParaRPr>
          </a:p>
        </p:txBody>
      </p:sp>
      <p:sp>
        <p:nvSpPr>
          <p:cNvPr id="48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54DF-6B81-48F8-8B5E-B7C46AF4274D}"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8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DD86-14BB-4FB8-A287-09040DE2BE15}"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88" name="Text Box 4"/>
          <p:cNvSpPr/>
          <p:nvPr/>
        </p:nvSpPr>
        <p:spPr>
          <a:xfrm>
            <a:off x="684360" y="1125360"/>
            <a:ext cx="82087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1. Görüşme bir gereksinmeyi karşılamak için yapıl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2. Görüşme dikkatle tasarlan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3. Görüşmeye olumlu olarak başlan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4. Konular sınırlı tutul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5. Görüşme süreci, konuya, ortama göre ayarlan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6. Bireylerin tüm gerçeklikleri konuşabilecekleri bir </a:t>
            </a:r>
            <a:r>
              <a:rPr b="0" lang="tr-TR" sz="2400" spc="-1" strike="noStrike">
                <a:solidFill>
                  <a:srgbClr val="29516d"/>
                </a:solidFill>
                <a:latin typeface="Arial"/>
              </a:rPr>
              <a:t>güven</a:t>
            </a:r>
            <a:r>
              <a:rPr b="0" lang="tr-TR" sz="2500" spc="-1" strike="noStrike">
                <a:solidFill>
                  <a:srgbClr val="29516d"/>
                </a:solidFill>
                <a:latin typeface="Arial"/>
              </a:rPr>
              <a:t> ortamı yaratılmalı,</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7. Anlayışlı olmalı, insanları olduğu gibi kabul etmeli,</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8. Görüşülen kişinin duyguları incitilmemeli, </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9. Görüşme sonunda önemli hususlar tekrar belirtilmeli,</a:t>
            </a:r>
            <a:endParaRPr b="0" lang="en-US" sz="2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10. Yapılan görüşmenin devam ve tamamlılığı konusunda karar alınmalı.</a:t>
            </a:r>
            <a:endParaRPr b="0" lang="en-US" sz="2500" spc="-1" strike="noStrike">
              <a:solidFill>
                <a:srgbClr val="3333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9280" y="691920"/>
            <a:ext cx="8137800" cy="10810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GÖRÜŞMEDE  KULLANILAN SORU TÜRLERİ</a:t>
            </a:r>
            <a:endParaRPr b="0" lang="en-US" sz="3600" spc="-1" strike="noStrike">
              <a:solidFill>
                <a:srgbClr val="4e5b6f"/>
              </a:solidFill>
              <a:latin typeface="Arial"/>
            </a:endParaRPr>
          </a:p>
        </p:txBody>
      </p:sp>
      <p:sp>
        <p:nvSpPr>
          <p:cNvPr id="49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B33F-7D11-40E7-A7A9-E672CCE20D5B}"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9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8F45-16C2-42C8-AA68-0FCD3675F43C}"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92" name="Text Box 4"/>
          <p:cNvSpPr/>
          <p:nvPr/>
        </p:nvSpPr>
        <p:spPr>
          <a:xfrm>
            <a:off x="857160" y="1071720"/>
            <a:ext cx="7704360" cy="542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Özgün bir soruyla yapılan görüşme</a:t>
            </a: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Açık uçlu sorularla yapılan görüşme</a:t>
            </a: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Yarı kapalı sorularla yapılan görüşme</a:t>
            </a:r>
            <a:endParaRPr b="0" lang="en-US" sz="38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29516d"/>
                </a:solidFill>
                <a:latin typeface="Arial"/>
              </a:rPr>
              <a:t>Bireyle iletişim sağlanması</a:t>
            </a:r>
            <a:endParaRPr b="0" lang="en-US" sz="3800" spc="-1" strike="noStrike">
              <a:solidFill>
                <a:srgbClr val="3333ff"/>
              </a:solidFill>
              <a:latin typeface="Arial"/>
            </a:endParaRPr>
          </a:p>
          <a:p>
            <a:pPr>
              <a:spcBef>
                <a:spcPts val="9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333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1280" y="549000"/>
            <a:ext cx="8137440" cy="934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1f2377"/>
                </a:solidFill>
                <a:latin typeface="Arial"/>
              </a:rPr>
              <a:t>BİREYLERLE İLETİŞİM KURARKEN;</a:t>
            </a:r>
            <a:endParaRPr b="0" lang="en-US" sz="3400" spc="-1" strike="noStrike">
              <a:solidFill>
                <a:srgbClr val="4e5b6f"/>
              </a:solidFill>
              <a:latin typeface="Arial"/>
            </a:endParaRPr>
          </a:p>
        </p:txBody>
      </p:sp>
      <p:sp>
        <p:nvSpPr>
          <p:cNvPr id="49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A49B-FFF5-4B94-AB87-97062608C851}"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9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3CFAD-0F21-4DB2-970D-4F7CFACC93A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97" name="Text Box 4"/>
          <p:cNvSpPr/>
          <p:nvPr/>
        </p:nvSpPr>
        <p:spPr>
          <a:xfrm>
            <a:off x="684360" y="1557360"/>
            <a:ext cx="820872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madan önce düşünülmeli</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Akıllıca ve iyi konuşu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malar anlamlı o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urken dinleyenlere bakı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işilerle içten konuşu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ısa ve öz konuşul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Sakin ve heyecansız olunmalı</a:t>
            </a:r>
            <a:endParaRPr b="0" lang="en-US" sz="32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Hevesli ve istekli olunmalı</a:t>
            </a:r>
            <a:endParaRPr b="0" lang="en-US" sz="3200" spc="-1" strike="noStrike">
              <a:solidFill>
                <a:srgbClr val="3333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11280" y="549000"/>
            <a:ext cx="8137440" cy="934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BİREYLERLE İLETİŞİM KURARKEN;</a:t>
            </a:r>
            <a:endParaRPr b="0" lang="en-US" sz="3600" spc="-1" strike="noStrike">
              <a:solidFill>
                <a:srgbClr val="4e5b6f"/>
              </a:solidFill>
              <a:latin typeface="Arial"/>
            </a:endParaRPr>
          </a:p>
        </p:txBody>
      </p:sp>
      <p:sp>
        <p:nvSpPr>
          <p:cNvPr id="49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A09B-5D61-4943-BCD4-E1C18301C984}"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0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338E-2B47-455C-BE46-587BBCD61D81}"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02" name="Text Box 4"/>
          <p:cNvSpPr/>
          <p:nvPr/>
        </p:nvSpPr>
        <p:spPr>
          <a:xfrm>
            <a:off x="684360" y="1916280"/>
            <a:ext cx="8208720" cy="35060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9.Jestler konuşmaya uygun ol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0.Göz teması sağlan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1.Konuşma yarıda kesilmemeli</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2.Dinleyiciyi sıkmaktan kaçınıl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3.Fikirler bir merkezde toplan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4.Anlaşma ortamı sağlanmalı</a:t>
            </a:r>
            <a:endParaRPr b="0" lang="en-US" sz="3200" spc="-1" strike="noStrike">
              <a:solidFill>
                <a:srgbClr val="3333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5.İyi bir dinleyici olmalı</a:t>
            </a:r>
            <a:endParaRPr b="0" lang="en-US" sz="3200" spc="-1" strike="noStrike">
              <a:solidFill>
                <a:srgbClr val="3333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11280" y="549000"/>
            <a:ext cx="8137440" cy="934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BİREYLERLE İLETİŞİM KURARKEN</a:t>
            </a:r>
            <a:endParaRPr b="0" lang="en-US" sz="3600" spc="-1" strike="noStrike">
              <a:solidFill>
                <a:srgbClr val="4e5b6f"/>
              </a:solidFill>
              <a:latin typeface="Arial"/>
            </a:endParaRPr>
          </a:p>
        </p:txBody>
      </p:sp>
      <p:sp>
        <p:nvSpPr>
          <p:cNvPr id="50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CE2B-10FF-4869-B014-F4CE65E38C0E}"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0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60E3-BCA5-41FC-A3B9-8F25BD064D04}"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07" name="Text Box 4"/>
          <p:cNvSpPr/>
          <p:nvPr/>
        </p:nvSpPr>
        <p:spPr>
          <a:xfrm>
            <a:off x="684360" y="1413000"/>
            <a:ext cx="8208720" cy="4480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İyi Bir Dinleyici Olmanın Koşulları;</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onuşmayı bırak, konuşanı rahatlat</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Dinlerken başka iş yapma, dinlediğini göster</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endini konuşanın yerine koy, sabırlı ol</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Kızma, kızdığını belli etme,sakin ol</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Seni eleştirirse dikkatli dinle, açık ol</a:t>
            </a:r>
            <a:endParaRPr b="0" lang="en-US" sz="32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Soru sor, cevabını bekle, konuşmayı bırak</a:t>
            </a:r>
            <a:endParaRPr b="0" lang="en-US" sz="3200" spc="-1" strike="noStrike">
              <a:solidFill>
                <a:srgbClr val="3333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4360" y="549000"/>
            <a:ext cx="7704000" cy="718920"/>
          </a:xfrm>
          <a:prstGeom prst="rect">
            <a:avLst/>
          </a:prstGeom>
          <a:solidFill>
            <a:srgbClr val="00b050"/>
          </a:solidFill>
          <a:ln w="9360">
            <a:solidFill>
              <a:srgbClr val="00b05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TEFTİŞTE GRUP ÇALIŞMALARI</a:t>
            </a:r>
            <a:endParaRPr b="0" lang="en-US" sz="3600" spc="-1" strike="noStrike">
              <a:solidFill>
                <a:srgbClr val="4e5b6f"/>
              </a:solidFill>
              <a:latin typeface="Arial"/>
            </a:endParaRPr>
          </a:p>
        </p:txBody>
      </p:sp>
      <p:sp>
        <p:nvSpPr>
          <p:cNvPr id="50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5940-50C8-4BCF-B947-D183C356DDF9}"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1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A252-46B4-4966-A6C1-7657501F437B}"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12" name="Text Box 4"/>
          <p:cNvSpPr/>
          <p:nvPr/>
        </p:nvSpPr>
        <p:spPr>
          <a:xfrm>
            <a:off x="684360" y="1268280"/>
            <a:ext cx="8459640" cy="46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Müfettişin Grup Çalışmalarındaki Fonksiyonlar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Yöneticilik fonksiyonu</a:t>
            </a: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Danışmanlık fonksiyonu</a:t>
            </a: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Gözleyicilik fonksiyonu</a:t>
            </a:r>
            <a:endParaRPr b="0" lang="en-US" sz="3200" spc="-1" strike="noStrike">
              <a:solidFill>
                <a:srgbClr val="3333ff"/>
              </a:solidFill>
              <a:latin typeface="Arial"/>
            </a:endParaRPr>
          </a:p>
          <a:p>
            <a:pPr lvl="1" marL="45720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   </a:t>
            </a:r>
            <a:r>
              <a:rPr b="0" lang="tr-TR" sz="3200" spc="-1" strike="noStrike">
                <a:solidFill>
                  <a:srgbClr val="29516d"/>
                </a:solidFill>
                <a:latin typeface="Arial"/>
              </a:rPr>
              <a:t>İzleyicilik fonksiyonu</a:t>
            </a:r>
            <a:endParaRPr b="0" lang="en-US" sz="3200" spc="-1" strike="noStrike">
              <a:solidFill>
                <a:srgbClr val="3333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4360" y="762120"/>
            <a:ext cx="7704000" cy="91440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BİREY VE GRUPLARLA ÇALIŞMA</a:t>
            </a:r>
            <a:endParaRPr b="0" lang="en-US" sz="3000" spc="-1" strike="noStrike">
              <a:solidFill>
                <a:srgbClr val="4e5b6f"/>
              </a:solidFill>
              <a:latin typeface="Arial"/>
            </a:endParaRPr>
          </a:p>
        </p:txBody>
      </p:sp>
      <p:sp>
        <p:nvSpPr>
          <p:cNvPr id="428"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749A-AF82-4658-A608-ADD33DBE02E1}"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29"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1471-7218-4E91-8600-1DDBEFF9B035}"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30" name="Text Box 8"/>
          <p:cNvSpPr/>
          <p:nvPr/>
        </p:nvSpPr>
        <p:spPr>
          <a:xfrm>
            <a:off x="684360" y="1628640"/>
            <a:ext cx="770400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Bir  grupta çalışan insanların çeşitli sorunları olur ve bu sorunları oluşturan faktörlerin farklı olabileceği gibi bir sorun, bireylerde farklı problemler yaratabilir. Bu problemler kişilerin çalışma ve başarısını etkiler. Bu sebeple önce problem tanımlanmalı daha sonra çözüm yolları aranmalıdır.</a:t>
            </a:r>
            <a:endParaRPr b="0" lang="en-US" sz="3000" spc="-1" strike="noStrike">
              <a:solidFill>
                <a:srgbClr val="3333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11280" y="549000"/>
            <a:ext cx="8137440" cy="934920"/>
          </a:xfrm>
          <a:prstGeom prst="rect">
            <a:avLst/>
          </a:prstGeom>
          <a:solidFill>
            <a:srgbClr val="00b050"/>
          </a:solid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DİNAMİĞİ :</a:t>
            </a:r>
            <a:endParaRPr b="0" lang="en-US" sz="4000" spc="-1" strike="noStrike">
              <a:solidFill>
                <a:srgbClr val="4e5b6f"/>
              </a:solidFill>
              <a:latin typeface="Arial"/>
            </a:endParaRPr>
          </a:p>
        </p:txBody>
      </p:sp>
      <p:sp>
        <p:nvSpPr>
          <p:cNvPr id="51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ACB52-BF30-4DC5-BB54-B866B40C7500}"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1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0271-C45E-4F62-89F9-58185F0A2601}"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17" name="Text Box 4"/>
          <p:cNvSpPr/>
          <p:nvPr/>
        </p:nvSpPr>
        <p:spPr>
          <a:xfrm>
            <a:off x="684360" y="1557360"/>
            <a:ext cx="7704000" cy="3140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Gruptaki kişiler arasındaki etkileşim grup dinamiğini oluşturur.Grup çalışmasına giren kişi sayısı arttıkça dinamik artar.Grup dinamiği değişmeyi öngörür.</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13b75"/>
                </a:solidFill>
                <a:latin typeface="Arial"/>
              </a:rPr>
              <a:t>Gruplar oluşumuna göre formal ve informal gruplar olarak ikiye ayrılır.</a:t>
            </a:r>
            <a:endParaRPr b="0" lang="en-US" sz="3200" spc="-1" strike="noStrike">
              <a:solidFill>
                <a:srgbClr val="3333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11280" y="549000"/>
            <a:ext cx="8137440" cy="934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Times New Roman"/>
                <a:ea typeface="Times New Roman"/>
              </a:rPr>
              <a:t>GRUP ÇALIŞMALARININ TÜRLERİ</a:t>
            </a:r>
            <a:endParaRPr b="0" lang="en-US" sz="3600" spc="-1" strike="noStrike">
              <a:solidFill>
                <a:srgbClr val="4e5b6f"/>
              </a:solidFill>
              <a:latin typeface="Arial"/>
            </a:endParaRPr>
          </a:p>
        </p:txBody>
      </p:sp>
      <p:sp>
        <p:nvSpPr>
          <p:cNvPr id="519"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F687-70BC-4EED-9327-72A497602C93}"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21"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2AE8-FF78-4117-96BE-44DD1593F0E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22" name="Text Box 4"/>
          <p:cNvSpPr/>
          <p:nvPr/>
        </p:nvSpPr>
        <p:spPr>
          <a:xfrm>
            <a:off x="684360" y="1557360"/>
            <a:ext cx="770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f2377"/>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2377"/>
                </a:solidFill>
                <a:latin typeface="Arial"/>
              </a:rPr>
              <a:t>Özel Grup Çalışmaları:</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2377"/>
                </a:solidFill>
                <a:latin typeface="Arial"/>
              </a:rPr>
              <a:t>   </a:t>
            </a:r>
            <a:r>
              <a:rPr b="0" lang="tr-TR" sz="3200" spc="-1" strike="noStrike">
                <a:solidFill>
                  <a:srgbClr val="29516d"/>
                </a:solidFill>
                <a:latin typeface="Arial"/>
              </a:rPr>
              <a:t>Belirli konuların konuşularak, karara varıldığı dinleyicilere kapalı toplantılardır.</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Başlıcaları; danışma,serbest tartışmalar ve komisyondur.</a:t>
            </a:r>
            <a:endParaRPr b="0" lang="en-US" sz="3200" spc="-1" strike="noStrike">
              <a:solidFill>
                <a:srgbClr val="3333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pic>
        <p:nvPicPr>
          <p:cNvPr id="523" name="7 Diyagram" descr=""/>
          <p:cNvPicPr/>
          <p:nvPr/>
        </p:nvPicPr>
        <p:blipFill>
          <a:blip r:embed="rId1"/>
          <a:stretch/>
        </p:blipFill>
        <p:spPr>
          <a:xfrm>
            <a:off x="603360" y="493560"/>
            <a:ext cx="8150040" cy="1090800"/>
          </a:xfrm>
          <a:prstGeom prst="rect">
            <a:avLst/>
          </a:prstGeom>
          <a:ln w="0">
            <a:noFill/>
          </a:ln>
        </p:spPr>
      </p:pic>
      <p:sp>
        <p:nvSpPr>
          <p:cNvPr id="52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E1E6-2175-499B-858A-A8E34E0D7717}"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2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6984-0930-4506-8DFF-91280A5CBB90}"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27" name="Text Box 4"/>
          <p:cNvSpPr/>
          <p:nvPr/>
        </p:nvSpPr>
        <p:spPr>
          <a:xfrm>
            <a:off x="684360" y="1557360"/>
            <a:ext cx="7704000" cy="399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1f2377"/>
                </a:solidFill>
                <a:latin typeface="Arial"/>
              </a:rPr>
              <a:t>B. Genel Grup Çalışmaları</a:t>
            </a:r>
            <a:endParaRPr b="0" lang="en-US" sz="32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Açıklamalar yapmak, fikir alışverişinde bulunmak,ilgilileri etkilemek, kamuoyu yaratmak ve gerektiğinde kararları almak üzere yapılan çalışmalardır. Genellikle dinleyicilerde katılır. </a:t>
            </a:r>
            <a:endParaRPr b="0" lang="en-US" sz="28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enel grup çalışmalarının başlıcaları şunlardır: Panel, sempozyum, münazara, açık oturum, kolokyum, forum, kurultay, seminer</a:t>
            </a:r>
            <a:endParaRPr b="0" lang="en-US" sz="2800" spc="-1" strike="noStrike">
              <a:solidFill>
                <a:srgbClr val="3333ff"/>
              </a:solidFill>
              <a:latin typeface="Arial"/>
            </a:endParaRPr>
          </a:p>
        </p:txBody>
      </p:sp>
      <p:sp>
        <p:nvSpPr>
          <p:cNvPr id="528" name="6 Dikdörtgen"/>
          <p:cNvSpPr/>
          <p:nvPr/>
        </p:nvSpPr>
        <p:spPr>
          <a:xfrm>
            <a:off x="4479840" y="2967120"/>
            <a:ext cx="184320" cy="923760"/>
          </a:xfrm>
          <a:prstGeom prst="rect">
            <a:avLst/>
          </a:prstGeom>
          <a:noFill/>
          <a:ln w="9360">
            <a:solidFill>
              <a:srgbClr val="7fd13b"/>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pic>
        <p:nvPicPr>
          <p:cNvPr id="529" name="6 Diyagram" descr=""/>
          <p:cNvPicPr/>
          <p:nvPr/>
        </p:nvPicPr>
        <p:blipFill>
          <a:blip r:embed="rId1"/>
          <a:stretch/>
        </p:blipFill>
        <p:spPr>
          <a:xfrm>
            <a:off x="407880" y="517680"/>
            <a:ext cx="8358120" cy="555480"/>
          </a:xfrm>
          <a:prstGeom prst="rect">
            <a:avLst/>
          </a:prstGeom>
          <a:ln w="0">
            <a:noFill/>
          </a:ln>
        </p:spPr>
      </p:pic>
      <p:sp>
        <p:nvSpPr>
          <p:cNvPr id="53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5874-38F8-4310-9945-5FC8BF1919A7}"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3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F88A-13FC-4006-A6A4-1E82CF52C6F5}"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33" name="Text Box 4"/>
          <p:cNvSpPr/>
          <p:nvPr/>
        </p:nvSpPr>
        <p:spPr>
          <a:xfrm>
            <a:off x="642960" y="1071720"/>
            <a:ext cx="7704000" cy="550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üyelerinin çalışmaya istekli ve hazırlıklı olmalar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Fiziksel ortamın uygun ol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Amacının formüle edilmesi, tanıtılması ve üyelere benimsetilmesi</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toplantısının demokratik ol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Önemli problemlerin toplantılara getirilmesi ve tartışılmaya açık tutul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Fikir birliği sağlama yollarının aranması</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Liderliğin devredilmesi</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üyelerinin sırayla oturumları yönetmesi</a:t>
            </a:r>
            <a:endParaRPr b="0" lang="en-US" sz="25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29516d"/>
                </a:solidFill>
                <a:latin typeface="Arial"/>
              </a:rPr>
              <a:t>Grup çalışmalarının değerlendirilmesi ve duyurulması</a:t>
            </a:r>
            <a:endParaRPr b="0" lang="en-US" sz="2500" spc="-1" strike="noStrike">
              <a:solidFill>
                <a:srgbClr val="3333ff"/>
              </a:solidFill>
              <a:latin typeface="Arial"/>
            </a:endParaRPr>
          </a:p>
          <a:p>
            <a:pPr marL="343080" indent="-343080">
              <a:spcBef>
                <a:spcPts val="624"/>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11280" y="549000"/>
            <a:ext cx="8137440" cy="718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Times New Roman"/>
                <a:ea typeface="Times New Roman"/>
              </a:rPr>
              <a:t>BAŞARILI GRUP ÇALIŞMASI İÇİN;</a:t>
            </a:r>
            <a:endParaRPr b="0" lang="en-US" sz="3600" spc="-1" strike="noStrike">
              <a:solidFill>
                <a:srgbClr val="4e5b6f"/>
              </a:solidFill>
              <a:latin typeface="Arial"/>
            </a:endParaRPr>
          </a:p>
        </p:txBody>
      </p:sp>
      <p:sp>
        <p:nvSpPr>
          <p:cNvPr id="53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7B38-36D6-4720-8794-C2C10476BD99}"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3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80AA-F481-4369-AE0A-2D46E2FA84B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38" name="Text Box 4"/>
          <p:cNvSpPr/>
          <p:nvPr/>
        </p:nvSpPr>
        <p:spPr>
          <a:xfrm>
            <a:off x="684360" y="1557360"/>
            <a:ext cx="7704000" cy="475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Sorunu gruba anlatarak görüş ve fikir birliği sağlama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Engelleri saptamak, grubu yöneltme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Sorunla ilgili bilgi toplamak, analiz etme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5N1K sorularına kesin yanıt arama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Kısa ve özlü açıklamalar yapma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Çözüm alternatiflerini kaydetmek</a:t>
            </a:r>
            <a:endParaRPr b="0" lang="en-US" sz="30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Geçerli fikir bulana dek beliren fikirleri el altında tutmak</a:t>
            </a:r>
            <a:endParaRPr b="0" lang="en-US" sz="3000" spc="-1" strike="noStrike">
              <a:solidFill>
                <a:srgbClr val="3333ff"/>
              </a:solidFill>
              <a:latin typeface="Arial"/>
            </a:endParaRPr>
          </a:p>
          <a:p>
            <a:pPr marL="343080" indent="-343080">
              <a:spcBef>
                <a:spcPts val="751"/>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11280" y="549000"/>
            <a:ext cx="8137440" cy="718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Times New Roman"/>
                <a:ea typeface="Times New Roman"/>
              </a:rPr>
              <a:t>BAŞARILI GRUP ÇALIŞMASI İÇİN;</a:t>
            </a:r>
            <a:endParaRPr b="0" lang="en-US" sz="3600" spc="-1" strike="noStrike">
              <a:solidFill>
                <a:srgbClr val="4e5b6f"/>
              </a:solidFill>
              <a:latin typeface="Arial"/>
            </a:endParaRPr>
          </a:p>
        </p:txBody>
      </p:sp>
      <p:sp>
        <p:nvSpPr>
          <p:cNvPr id="5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863E-6BB9-4FDE-B0C7-5029AF92CEC5}"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4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3D92D-B3D4-476F-B67B-66BF9979A750}"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43" name="Text Box 4"/>
          <p:cNvSpPr/>
          <p:nvPr/>
        </p:nvSpPr>
        <p:spPr>
          <a:xfrm>
            <a:off x="684360" y="1557360"/>
            <a:ext cx="7704000" cy="4757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8.Anlaşmazlık ve tartışmaları önlemek,ortam yaratmama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9.Sonradan çıkan sorunları saptamak ve formüle etme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0.Esas soruna etkilerini saptama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1.Esas ve diğer sorunlarla ilgili çözüm yolları saptamak</a:t>
            </a:r>
            <a:endParaRPr b="0" lang="en-US" sz="30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2.Alternatifler arasından en etkili sorunu seçmek ve grup kararı sağlamak</a:t>
            </a:r>
            <a:endParaRPr b="0" lang="en-US" sz="3000" spc="-1" strike="noStrike">
              <a:solidFill>
                <a:srgbClr val="3333ff"/>
              </a:solidFill>
              <a:latin typeface="Arial"/>
            </a:endParaRPr>
          </a:p>
          <a:p>
            <a:pPr marL="343080" indent="-343080">
              <a:spcBef>
                <a:spcPts val="751"/>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ff"/>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68000" y="260280"/>
            <a:ext cx="8280360" cy="122400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ÇALIŞMASININ SINIRLILIKLARI</a:t>
            </a:r>
            <a:endParaRPr b="0" lang="en-US" sz="4000" spc="-1" strike="noStrike">
              <a:solidFill>
                <a:srgbClr val="4e5b6f"/>
              </a:solidFill>
              <a:latin typeface="Arial"/>
            </a:endParaRPr>
          </a:p>
        </p:txBody>
      </p:sp>
      <p:sp>
        <p:nvSpPr>
          <p:cNvPr id="54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47A9-7816-4C68-BB24-85E1F417E855}"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4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0C71-E846-42A7-8966-58A2DEAAE4F9}"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48" name="Text Box 4"/>
          <p:cNvSpPr/>
          <p:nvPr/>
        </p:nvSpPr>
        <p:spPr>
          <a:xfrm>
            <a:off x="684360" y="1557360"/>
            <a:ext cx="770400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İsteksiz ve ilgisiz olan üyelerle grup çalışması yürütülemez.</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örüşleri esasta farklı, peşin hükümlü, kasıtlı davranan üyeler anlaşamaz.</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eveze, karamsar, ilgisiz ve kavgacı üyeler nesnel karar veremezler.</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Kurumlarda karşılaşılan her problem grup çalışmaları yolu ile çözülemez.</a:t>
            </a:r>
            <a:endParaRPr b="0" lang="en-US" sz="28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rup çalışmaları sonunda bilim ve fikir üretiminin olacağı beklenemez</a:t>
            </a:r>
            <a:endParaRPr b="0" lang="en-US" sz="2800" spc="-1" strike="noStrike">
              <a:solidFill>
                <a:srgbClr val="3333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0"/>
            <a:ext cx="8569440" cy="134136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1" lang="tr-TR" sz="4000" spc="-1" strike="noStrike">
                <a:solidFill>
                  <a:srgbClr val="1f2377"/>
                </a:solidFill>
                <a:latin typeface="Times New Roman"/>
                <a:ea typeface="Times New Roman"/>
              </a:rPr>
              <a:t>GRUP TOPLANTISI   PLANLANIRKEN;</a:t>
            </a:r>
            <a:endParaRPr b="0" lang="en-US" sz="4000" spc="-1" strike="noStrike">
              <a:solidFill>
                <a:srgbClr val="4e5b6f"/>
              </a:solidFill>
              <a:latin typeface="Arial"/>
            </a:endParaRPr>
          </a:p>
        </p:txBody>
      </p:sp>
      <p:sp>
        <p:nvSpPr>
          <p:cNvPr id="55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1BC2-D9C2-4D99-B3C9-0EE060B7D824}"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5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3238-47C0-4D7C-97F8-E2C7F23DDFB6}"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53" name="Text Box 4"/>
          <p:cNvSpPr/>
          <p:nvPr/>
        </p:nvSpPr>
        <p:spPr>
          <a:xfrm>
            <a:off x="503280" y="1413000"/>
            <a:ext cx="864072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Grup toplantısının amaçları sapt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Amaca uygun gündem hazırl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 için gerekli bilgiler sağl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Bilgiler kolaylıkla sunulur hale getiril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ya katılacaklar belirlen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Gerekirse katılacaklar ile ön görüşme yapıl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ya katılacaklara gündem ve duyuru gönderil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da kullanılacak araçlar sağlan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Toplantı yerinin uygun olması için hazırlık yapılı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29516d"/>
                </a:solidFill>
                <a:latin typeface="Arial"/>
              </a:rPr>
              <a:t>Yapılan tüm işlemler kontrol edilir.</a:t>
            </a:r>
            <a:endParaRPr b="0" lang="en-US" sz="2700" spc="-1" strike="noStrike">
              <a:solidFill>
                <a:srgbClr val="3333ff"/>
              </a:solidFill>
              <a:latin typeface="Arial"/>
            </a:endParaRPr>
          </a:p>
          <a:p>
            <a:pPr marL="343080" indent="-343080">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333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11280" y="404640"/>
            <a:ext cx="8137440" cy="115128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TOPLANTILARINDA DİKKAT EDİLECEK HUSUSLAR</a:t>
            </a:r>
            <a:endParaRPr b="0" lang="en-US" sz="4000" spc="-1" strike="noStrike">
              <a:solidFill>
                <a:srgbClr val="4e5b6f"/>
              </a:solidFill>
              <a:latin typeface="Arial"/>
            </a:endParaRPr>
          </a:p>
        </p:txBody>
      </p:sp>
      <p:sp>
        <p:nvSpPr>
          <p:cNvPr id="5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5360-5791-4124-8D0B-F89673168D23}"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5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0F79-B42D-4A6E-A00C-8834D5132A5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58" name="Text Box 4"/>
          <p:cNvSpPr/>
          <p:nvPr/>
        </p:nvSpPr>
        <p:spPr>
          <a:xfrm>
            <a:off x="755640" y="1844640"/>
            <a:ext cx="770400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gündemi sınırlı olmalı.</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küçük ve homojen grupla yapılmalı katılım sağlanmalı</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Süreyi aşılmamalı, ortam sakin ve rahat olmalı.</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da görüşülecek sorun gruba anlatılmalı, problemin önemi hissettirilmeli.</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da niçin, nasıl, kim, hangi, nerede, ne zaman sorularına yanıt aranmalı</a:t>
            </a:r>
            <a:r>
              <a:rPr b="0" lang="tr-TR" sz="2600" spc="-1" strike="noStrike">
                <a:solidFill>
                  <a:srgbClr val="29516d"/>
                </a:solidFill>
                <a:latin typeface="Arial"/>
              </a:rPr>
              <a:t>, </a:t>
            </a:r>
            <a:endParaRPr b="0" lang="en-US" sz="2600" spc="-1" strike="noStrike">
              <a:solidFill>
                <a:srgbClr val="3333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11280" y="333360"/>
            <a:ext cx="8137440" cy="122256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300" spc="-1" strike="noStrike" u="sng">
                <a:solidFill>
                  <a:srgbClr val="1f2377"/>
                </a:solidFill>
                <a:uFillTx/>
                <a:latin typeface="Arial Black"/>
                <a:ea typeface="Times New Roman"/>
              </a:rPr>
              <a:t>GRUP TOPLANTILARINDA DİKKAT EDİLECEK HUSUSLAR</a:t>
            </a:r>
            <a:endParaRPr b="0" lang="en-US" sz="3300" spc="-1" strike="noStrike">
              <a:solidFill>
                <a:srgbClr val="4e5b6f"/>
              </a:solidFill>
              <a:latin typeface="Arial"/>
            </a:endParaRPr>
          </a:p>
        </p:txBody>
      </p:sp>
      <p:sp>
        <p:nvSpPr>
          <p:cNvPr id="5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55D8-A768-410F-B142-E1D920FB706E}"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6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60E8-46EF-4A0B-A2F7-13D773EA8C3B}"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63" name="Text Box 4"/>
          <p:cNvSpPr/>
          <p:nvPr/>
        </p:nvSpPr>
        <p:spPr>
          <a:xfrm>
            <a:off x="755640" y="1844640"/>
            <a:ext cx="7704000" cy="4084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artışılacak sorunla ilgili bilgilerin analizi sağlanmalı, çözümler için görüş alınmalı.</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oplantıda kişisel sorunlar giderilmeli ve konu dışına çıkılmamalı.</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Sorun ile ilgili birden fazla çözüm yolu bulunarak grupça karar verilmeli.</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oplantı sonunda sonuç özetlenmeli tutanak haline getirilmeli ve üyelere imzalatılmalı.</a:t>
            </a:r>
            <a:endParaRPr b="0" lang="en-US" sz="26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Toplantı sürekli olacaksa gelecek toplantı tarihi ve gündemi üyelerce saptanmalı</a:t>
            </a:r>
            <a:r>
              <a:rPr b="0" lang="tr-TR" sz="2800" spc="-1" strike="noStrike">
                <a:solidFill>
                  <a:srgbClr val="29516d"/>
                </a:solidFill>
                <a:latin typeface="Arial"/>
              </a:rPr>
              <a:t>.</a:t>
            </a:r>
            <a:endParaRPr b="0" lang="en-US" sz="2800" spc="-1" strike="noStrike">
              <a:solidFill>
                <a:srgbClr val="3333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4360" y="549000"/>
            <a:ext cx="7704000" cy="7189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PROBLEM BELİRTİLERİ</a:t>
            </a:r>
            <a:endParaRPr b="0" lang="en-US" sz="3000" spc="-1" strike="noStrike">
              <a:solidFill>
                <a:srgbClr val="4e5b6f"/>
              </a:solidFill>
              <a:latin typeface="Arial"/>
            </a:endParaRPr>
          </a:p>
        </p:txBody>
      </p:sp>
      <p:sp>
        <p:nvSpPr>
          <p:cNvPr id="432"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F269-8D9A-4B7B-B460-447E07180FBD}"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33"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4AC0-ECCF-49F8-B6E2-092755CE7B09}"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34" name="Text Box 4"/>
          <p:cNvSpPr/>
          <p:nvPr/>
        </p:nvSpPr>
        <p:spPr>
          <a:xfrm>
            <a:off x="755640" y="1125360"/>
            <a:ext cx="7993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1. İşini severek yaparken işe isteksiz gelmeye başla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2. Hastalığı olmaksızın yüzünde solma ve bedeninde zayıflama görülü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3. Olayları olduğundan fazla büyütür. Aşırı hassasiyet göster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4. Aşırı sinir, titreme, irkilme göster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5. Tik sahibi olu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6. Sorumluluklarını yerine getirmede isteksiz ve yetersizd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7. Konuşurken rahat değildir. Oturamaz ayakta gezini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8. Eskiye nazaran suskunlaşmıştı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9. Bir olayı defalarca aynı heyecanla anlatı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10. Konuşurken birden bire sertleşir ve sesini yükseltir</a:t>
            </a:r>
            <a:endParaRPr b="0" lang="en-US" sz="2400" spc="-1" strike="noStrike">
              <a:solidFill>
                <a:srgbClr val="3333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11280" y="549000"/>
            <a:ext cx="8137440" cy="718920"/>
          </a:xfrm>
          <a:prstGeom prst="rect">
            <a:avLst/>
          </a:prstGeom>
          <a:solidFill>
            <a:srgbClr val="00b050"/>
          </a:solid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1f2377"/>
                </a:solidFill>
                <a:latin typeface="Times New Roman"/>
                <a:ea typeface="Times New Roman"/>
              </a:rPr>
              <a:t>GRUP KARARI</a:t>
            </a:r>
            <a:endParaRPr b="0" lang="en-US" sz="4000" spc="-1" strike="noStrike">
              <a:solidFill>
                <a:srgbClr val="4e5b6f"/>
              </a:solidFill>
              <a:latin typeface="Arial"/>
            </a:endParaRPr>
          </a:p>
        </p:txBody>
      </p:sp>
      <p:sp>
        <p:nvSpPr>
          <p:cNvPr id="56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0095-0C30-459C-AC35-D2CEC8A2997B}"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6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CBF4-2623-489A-B443-4DEA23B87E97}"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67" name="Text Box 4"/>
          <p:cNvSpPr/>
          <p:nvPr/>
        </p:nvSpPr>
        <p:spPr>
          <a:xfrm>
            <a:off x="642960" y="1357200"/>
            <a:ext cx="7704000" cy="487548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Hedeflerin belirlenmesi,</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rup liderinin rolü,</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Karara tam ve etkin katılım,</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Liderin üyelere güven vermesi ve saygı duyması ile bunu hissettirmesi,</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erekli bilgi ve veriye sahip olma,</a:t>
            </a:r>
            <a:endParaRPr b="0" lang="en-US" sz="2800" spc="-1" strike="noStrike">
              <a:solidFill>
                <a:srgbClr val="3333ff"/>
              </a:solidFill>
              <a:latin typeface="Arial"/>
            </a:endParaRPr>
          </a:p>
          <a:p>
            <a:pPr lvl="1" marL="800280" indent="-343080">
              <a:lnSpc>
                <a:spcPct val="100000"/>
              </a:lnSpc>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süresince ve sonucunda üyelerin  tepkilerini ölçme,</a:t>
            </a:r>
            <a:endParaRPr b="0" lang="en-US" sz="2800" spc="-1" strike="noStrike">
              <a:solidFill>
                <a:srgbClr val="3333ff"/>
              </a:solidFill>
              <a:latin typeface="Arial"/>
            </a:endParaRPr>
          </a:p>
          <a:p>
            <a:pPr marL="343080" indent="-343080">
              <a:buClr>
                <a:srgbClr val="2951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Grubun sağlıklı kararlar vermesinde etkilidir.</a:t>
            </a:r>
            <a:endParaRPr b="0" lang="en-US" sz="2800" spc="-1" strike="noStrike">
              <a:solidFill>
                <a:srgbClr val="3333ff"/>
              </a:solidFill>
              <a:latin typeface="Arial"/>
            </a:endParaRPr>
          </a:p>
          <a:p>
            <a:pPr marL="343080" indent="-343080">
              <a:spcBef>
                <a:spcPts val="700"/>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6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22827-5E51-4380-B264-7A256F45024E}"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70"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0B08-C70B-4BFA-88C3-0F292DFD0C0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71" name="Text Box 4"/>
          <p:cNvSpPr/>
          <p:nvPr/>
        </p:nvSpPr>
        <p:spPr>
          <a:xfrm>
            <a:off x="571680" y="1214280"/>
            <a:ext cx="7704000" cy="53481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nın adı</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tarihi ve saati</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nın yapılacağı ye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ya katılanların isimleri</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ya katılmayacakların isimleri</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 konusu ve tartışılacak sorunla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Ortaya konan diğer sorunla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Yapılan konuşma özetleri ve önerile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da alınan kararlar</a:t>
            </a:r>
            <a:endParaRPr b="0" lang="en-US" sz="2800" spc="-1" strike="noStrike">
              <a:solidFill>
                <a:srgbClr val="3333ff"/>
              </a:solidFill>
              <a:latin typeface="Arial"/>
            </a:endParaRPr>
          </a:p>
          <a:p>
            <a:pPr lvl="1" marL="800280" indent="-343080">
              <a:lnSpc>
                <a:spcPct val="100000"/>
              </a:lnSpc>
              <a:buClr>
                <a:srgbClr val="29516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29516d"/>
                </a:solidFill>
                <a:latin typeface="Arial"/>
              </a:rPr>
              <a:t>Toplantıya katılanların imzaları</a:t>
            </a:r>
            <a:endParaRPr b="0" lang="en-US" sz="2800" spc="-1" strike="noStrike">
              <a:solidFill>
                <a:srgbClr val="3333ff"/>
              </a:solidFill>
              <a:latin typeface="Arial"/>
            </a:endParaRPr>
          </a:p>
          <a:p>
            <a:pPr marL="343080" indent="-343080">
              <a:lnSpc>
                <a:spcPct val="90000"/>
              </a:lnSpc>
              <a:spcBef>
                <a:spcPts val="700"/>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a:p>
            <a:pPr marL="343080" indent="-343080">
              <a:spcBef>
                <a:spcPts val="700"/>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p:txBody>
      </p:sp>
      <p:sp>
        <p:nvSpPr>
          <p:cNvPr id="572" name="Text Box 6"/>
          <p:cNvSpPr/>
          <p:nvPr/>
        </p:nvSpPr>
        <p:spPr>
          <a:xfrm>
            <a:off x="826920" y="561960"/>
            <a:ext cx="756144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e5b6f"/>
                </a:solidFill>
                <a:latin typeface="Arial"/>
              </a:rPr>
              <a:t>Toplantı Tutanağı</a:t>
            </a:r>
            <a:endParaRPr b="0" lang="en-US" sz="3600" spc="-1" strike="noStrike">
              <a:solidFill>
                <a:srgbClr val="3333ff"/>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57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F77B-14AE-46D2-8CA8-819AA12F239C}"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575"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013A-3C1A-458B-A72D-8437AE42005E}"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576" name="Text Box 3"/>
          <p:cNvSpPr/>
          <p:nvPr/>
        </p:nvSpPr>
        <p:spPr>
          <a:xfrm>
            <a:off x="684360" y="1557360"/>
            <a:ext cx="7704000" cy="442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9516d"/>
                </a:solidFill>
                <a:latin typeface="Arial"/>
              </a:rPr>
              <a:t>   </a:t>
            </a:r>
            <a:r>
              <a:rPr b="1" lang="tr-TR" sz="3200" spc="-1" strike="noStrike">
                <a:solidFill>
                  <a:srgbClr val="29516d"/>
                </a:solidFill>
                <a:latin typeface="Arial"/>
              </a:rPr>
              <a:t>Bir gruba belirli zamanda toplu olarak, açıklamalarda bulunmak üzere yapılan grup çalışmasıdır. Dinleyiciler anlamadıklarını konferans veren kişiye sorabilirler ancak; tartışma ve karar alınması söz konusu değildir.</a:t>
            </a:r>
            <a:endParaRPr b="0" lang="en-US" sz="3200" spc="-1" strike="noStrike">
              <a:solidFill>
                <a:srgbClr val="3333ff"/>
              </a:solidFill>
              <a:latin typeface="Arial"/>
            </a:endParaRPr>
          </a:p>
          <a:p>
            <a:pPr marL="343080" indent="-343080">
              <a:lnSpc>
                <a:spcPct val="9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ff"/>
              </a:solidFill>
              <a:latin typeface="Arial"/>
            </a:endParaRPr>
          </a:p>
          <a:p>
            <a:pPr marL="343080" indent="-343080">
              <a:spcBef>
                <a:spcPts val="649"/>
              </a:spcBef>
              <a:buClr>
                <a:srgbClr val="f9f9f9"/>
              </a:buClr>
              <a:buSzPct val="65000"/>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ff"/>
              </a:solidFill>
              <a:latin typeface="Arial"/>
            </a:endParaRPr>
          </a:p>
        </p:txBody>
      </p:sp>
      <p:sp>
        <p:nvSpPr>
          <p:cNvPr id="577" name="Text Box 4"/>
          <p:cNvSpPr/>
          <p:nvPr/>
        </p:nvSpPr>
        <p:spPr>
          <a:xfrm>
            <a:off x="826920" y="561960"/>
            <a:ext cx="756144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4e5b6f"/>
                </a:solidFill>
                <a:latin typeface="Arial"/>
              </a:rPr>
              <a:t>Konferanslar</a:t>
            </a:r>
            <a:endParaRPr b="0" lang="en-US" sz="3600" spc="-1" strike="noStrike">
              <a:solidFill>
                <a:srgbClr val="3333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4360" y="549360"/>
            <a:ext cx="7704000" cy="79200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PROBLEM BELİRTİLERİ</a:t>
            </a:r>
            <a:endParaRPr b="0" lang="en-US" sz="3000" spc="-1" strike="noStrike">
              <a:solidFill>
                <a:srgbClr val="4e5b6f"/>
              </a:solidFill>
              <a:latin typeface="Arial"/>
            </a:endParaRPr>
          </a:p>
        </p:txBody>
      </p:sp>
      <p:sp>
        <p:nvSpPr>
          <p:cNvPr id="43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A389-DB63-4BC3-92D9-D745BF48F0BC}"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3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2398-1C13-4B2F-9FEE-410DD42A862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38" name="Text Box 4"/>
          <p:cNvSpPr/>
          <p:nvPr/>
        </p:nvSpPr>
        <p:spPr>
          <a:xfrm>
            <a:off x="539640" y="1125360"/>
            <a:ext cx="828036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1. Alkol almaya başlar ya da dozunu yükselti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2. Sakinleştirici kullanma ihtiyacı duyar ya da kullanı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3. Çalışma arkadaşlarıyla problem yaşamaya başla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4. Birlikte çalıştığı kimseler hakkında şikayetleri arta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5. Disiplin sorunları yaşamaya başla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6. Sosyal bir insanken inzivaya çekilir. </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7. Yardımsever bir insanken bu konuda duyarsızlaşı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8. Sözünde durmamaya başlar ya da sözünü geri alır.</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19. İşinde başarısız olduğunda suçu başkalarına yükle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20. İnsanların iyi yönlerinden çok kötü yönlerinden söz</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eder.</a:t>
            </a:r>
            <a:endParaRPr b="0" lang="en-US" sz="24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29516d"/>
                </a:solidFill>
                <a:latin typeface="Arial"/>
              </a:rPr>
              <a:t>21. Beraber çalıştığı insanlardan paranoyakça şüphe duyar</a:t>
            </a:r>
            <a:endParaRPr b="0" lang="en-US" sz="2400" spc="-1" strike="noStrike">
              <a:solidFill>
                <a:srgbClr val="3333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476280"/>
            <a:ext cx="7704000" cy="93672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1f2377"/>
                </a:solidFill>
                <a:latin typeface="Arial"/>
              </a:rPr>
              <a:t>PROBLEM ÇÖZÜMÜ</a:t>
            </a:r>
            <a:endParaRPr b="0" lang="en-US" sz="3400" spc="-1" strike="noStrike">
              <a:solidFill>
                <a:srgbClr val="4e5b6f"/>
              </a:solidFill>
              <a:latin typeface="Arial"/>
            </a:endParaRPr>
          </a:p>
        </p:txBody>
      </p:sp>
      <p:sp>
        <p:nvSpPr>
          <p:cNvPr id="44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08D7-BF63-4740-B4D0-A7797124E964}"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4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DB5A-B0C9-4E01-8F79-7B1AA016412E}"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43" name="Rectangle 5"/>
          <p:cNvSpPr/>
          <p:nvPr/>
        </p:nvSpPr>
        <p:spPr>
          <a:xfrm>
            <a:off x="684360" y="1268280"/>
            <a:ext cx="7775280" cy="42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Problemi çözmek, beklenen sonuç ile gerçekleşen sonuç arasındaki farkı yaratan yada ve yaratacak olan engeli ortadan kaldırmaktır.</a:t>
            </a:r>
            <a:r>
              <a:rPr b="0" lang="tr-TR" sz="2800" spc="-1" strike="noStrike">
                <a:solidFill>
                  <a:srgbClr val="29516d"/>
                </a:solidFill>
                <a:latin typeface="Arial"/>
              </a:rPr>
              <a:t> </a:t>
            </a:r>
            <a:endParaRPr b="0" lang="en-US" sz="2800" spc="-1" strike="noStrike">
              <a:solidFill>
                <a:srgbClr val="3333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29516d"/>
                </a:solidFill>
                <a:latin typeface="Arial"/>
              </a:rPr>
              <a:t>Bireylerin Karşılaştıkları Problemler Durum Evrelerine Göre Üç Kısma Ayrılır</a:t>
            </a:r>
            <a:endParaRPr b="0" lang="en-US" sz="3000" spc="-1" strike="noStrike">
              <a:solidFill>
                <a:srgbClr val="3333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1. Önceden meydana gelmiş problemler</a:t>
            </a:r>
            <a:endParaRPr b="0" lang="en-US" sz="3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2. Var olan ve çözüm bekleyen problemler</a:t>
            </a:r>
            <a:endParaRPr b="0" lang="en-US" sz="30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29516d"/>
                </a:solidFill>
                <a:latin typeface="Arial"/>
              </a:rPr>
              <a:t>3. Önlem alınarak çözülebilecek problemler</a:t>
            </a:r>
            <a:endParaRPr b="0" lang="en-US" sz="3000" spc="-1" strike="noStrike">
              <a:solidFill>
                <a:srgbClr val="3333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4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90D2-B1F2-42E1-B54B-38BD9A02547C}"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46"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35A7-D720-44DF-8C15-0D5938C0027F}"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47" name="Text Box 6"/>
          <p:cNvSpPr/>
          <p:nvPr/>
        </p:nvSpPr>
        <p:spPr>
          <a:xfrm>
            <a:off x="1979640" y="2224080"/>
            <a:ext cx="3960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ff"/>
              </a:solidFill>
              <a:latin typeface="Arial"/>
            </a:endParaRPr>
          </a:p>
        </p:txBody>
      </p:sp>
      <p:sp>
        <p:nvSpPr>
          <p:cNvPr id="448" name="2 İçerik Yer Tutucusu"/>
          <p:cNvSpPr/>
          <p:nvPr/>
        </p:nvSpPr>
        <p:spPr>
          <a:xfrm>
            <a:off x="457200" y="1197000"/>
            <a:ext cx="8229600" cy="511164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cc3399"/>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ff"/>
              </a:solidFill>
              <a:latin typeface="Arial"/>
            </a:endParaRPr>
          </a:p>
          <a:p>
            <a:pPr marL="547560" indent="-41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ea typeface="Times New Roman"/>
              </a:rPr>
              <a:t>    </a:t>
            </a:r>
            <a:r>
              <a:rPr b="0" lang="tr-TR" sz="3200" spc="-1" strike="noStrike">
                <a:solidFill>
                  <a:srgbClr val="29516d"/>
                </a:solidFill>
                <a:latin typeface="Arial"/>
                <a:ea typeface="Times New Roman"/>
              </a:rPr>
              <a:t>Bir problemi çözmenin iki ya da daha fazla yolu varsa, en uygun ve en iyisinin seçilmesi beklenir. Bu yüzden problem çözme ve karar verme birbiri ile yakından ilgilidir. Bu durumda problem çözme aslında bir karar verme sürecidir.</a:t>
            </a:r>
            <a:endParaRPr b="0" lang="en-US" sz="3200" spc="-1" strike="noStrike">
              <a:solidFill>
                <a:srgbClr val="3333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4360" y="836640"/>
            <a:ext cx="7704000" cy="6508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1f2377"/>
                </a:solidFill>
                <a:latin typeface="Arial"/>
              </a:rPr>
              <a:t>PROBLEM ÇÖZME AŞAMALARI</a:t>
            </a:r>
            <a:endParaRPr b="0" lang="en-US" sz="3000" spc="-1" strike="noStrike">
              <a:solidFill>
                <a:srgbClr val="4e5b6f"/>
              </a:solidFill>
              <a:latin typeface="Arial"/>
            </a:endParaRPr>
          </a:p>
        </p:txBody>
      </p:sp>
      <p:sp>
        <p:nvSpPr>
          <p:cNvPr id="45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7F4A-D2A4-4FA0-98BE-6237524357BD}"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5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BE82-F5C8-4F9F-94ED-A8EB3A2831B8}"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53" name="Text Box 4"/>
          <p:cNvSpPr/>
          <p:nvPr/>
        </p:nvSpPr>
        <p:spPr>
          <a:xfrm>
            <a:off x="684360" y="1557360"/>
            <a:ext cx="8459640" cy="394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 Problemin Tanım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2. Bilgilerin Top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3. Nedenlerin Sıra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4. Alternatif Çözümlerin Belirlenmes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5. Alternatiflerin Değerlendirilmes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6. Çözüm Alternatifinin Seçilmes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7. Uygulama Planının Hazırlanması</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29516d"/>
                </a:solidFill>
                <a:latin typeface="Arial"/>
              </a:rPr>
              <a:t>8. Uygulamanın İzlenmesi Ve Değerlendirilmesi</a:t>
            </a:r>
            <a:endParaRPr b="0" lang="en-US" sz="2900" spc="-1" strike="noStrike">
              <a:solidFill>
                <a:srgbClr val="3333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836640"/>
            <a:ext cx="7704000" cy="6508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1f2377"/>
                </a:solidFill>
                <a:latin typeface="Arial"/>
              </a:rPr>
              <a:t>BİREYLERLE ÇALIŞMA</a:t>
            </a:r>
            <a:endParaRPr b="0" lang="en-US" sz="3600" spc="-1" strike="noStrike">
              <a:solidFill>
                <a:srgbClr val="4e5b6f"/>
              </a:solidFill>
              <a:latin typeface="Arial"/>
            </a:endParaRPr>
          </a:p>
        </p:txBody>
      </p:sp>
      <p:sp>
        <p:nvSpPr>
          <p:cNvPr id="455"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5527-E87A-4121-8606-7CC59E854EEC}"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57"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040A-A7E8-44AA-A2E0-FCA268BE47AC}"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58" name="Text Box 4"/>
          <p:cNvSpPr/>
          <p:nvPr/>
        </p:nvSpPr>
        <p:spPr>
          <a:xfrm>
            <a:off x="684360" y="1557360"/>
            <a:ext cx="8459640" cy="409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213b75"/>
                </a:solidFill>
                <a:latin typeface="Arial"/>
              </a:rPr>
              <a:t>Başlıca işlemleri:</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1. Uygulamayı yerinde görme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2. Olumlu sonuç veren yöntemleri yaygınlaştırma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3. Düzeltilmesi gereken hataları saptama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4. Hataları yerinde ve zamanında gidermek</a:t>
            </a:r>
            <a:endParaRPr b="0" lang="en-US" sz="32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29516d"/>
                </a:solidFill>
                <a:latin typeface="Arial"/>
              </a:rPr>
              <a:t>5. Bireylerin çalışmalarını değerlendirmek</a:t>
            </a:r>
            <a:endParaRPr b="0" lang="en-US" sz="3200" spc="-1" strike="noStrike">
              <a:solidFill>
                <a:srgbClr val="3333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f591"/>
            </a:gs>
            <a:gs pos="100000">
              <a:srgbClr val="61b6ff"/>
            </a:gs>
          </a:gsLst>
          <a:path path="rect">
            <a:fillToRect l="50000" t="50000" r="50000" b="50000"/>
          </a:path>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539640" y="549360"/>
            <a:ext cx="8064720" cy="650880"/>
          </a:xfrm>
          <a:prstGeom prst="rect">
            <a:avLst/>
          </a:prstGeom>
          <a:solidFill>
            <a:srgbClr val="51da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f2377"/>
                </a:solidFill>
                <a:latin typeface="Arial"/>
              </a:rPr>
              <a:t>BİREYLERLE BİRLİKTE ÇALIŞMA  AMAÇLARI</a:t>
            </a:r>
            <a:endParaRPr b="0" lang="en-US" sz="2800" spc="-1" strike="noStrike">
              <a:solidFill>
                <a:srgbClr val="4e5b6f"/>
              </a:solidFill>
              <a:latin typeface="Arial"/>
            </a:endParaRPr>
          </a:p>
        </p:txBody>
      </p:sp>
      <p:sp>
        <p:nvSpPr>
          <p:cNvPr id="460"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3 Veri Yer Tutucusu"/>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B52B-1800-4FD0-9407-8A78C22F4CE0}" type="datetime">
              <a:rPr b="0" lang="tr-TR" sz="1200" spc="-1" strike="noStrike">
                <a:solidFill>
                  <a:srgbClr val="4e5b6f"/>
                </a:solidFill>
                <a:latin typeface="Arial"/>
              </a:rPr>
              <a:t>28.07.26</a:t>
            </a:fld>
            <a:endParaRPr b="0" lang="en-US" sz="1200" spc="-1" strike="noStrike">
              <a:solidFill>
                <a:srgbClr val="3333ff"/>
              </a:solidFill>
              <a:latin typeface="Arial"/>
            </a:endParaRPr>
          </a:p>
        </p:txBody>
      </p:sp>
      <p:sp>
        <p:nvSpPr>
          <p:cNvPr id="462" name="5 Slayt Numarası Yer Tutucusu"/>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516A-74ED-4690-AC85-CB32C4707997}" type="slidenum">
              <a:rPr b="1" lang="tr-TR" sz="1400" spc="-1" strike="noStrike">
                <a:solidFill>
                  <a:srgbClr val="ffffff"/>
                </a:solidFill>
                <a:latin typeface="Arial"/>
              </a:rPr>
              <a:t>&lt;number&gt;</a:t>
            </a:fld>
            <a:endParaRPr b="0" lang="en-US" sz="1400" spc="-1" strike="noStrike">
              <a:solidFill>
                <a:srgbClr val="3333ff"/>
              </a:solidFill>
              <a:latin typeface="Arial"/>
            </a:endParaRPr>
          </a:p>
        </p:txBody>
      </p:sp>
      <p:sp>
        <p:nvSpPr>
          <p:cNvPr id="463" name="Text Box 4"/>
          <p:cNvSpPr/>
          <p:nvPr/>
        </p:nvSpPr>
        <p:spPr>
          <a:xfrm>
            <a:off x="684360" y="1341360"/>
            <a:ext cx="820872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 Bireyin çalışması hakkında bilgi edin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2. Bireyin iyi ve ümit verici yeteneklerini sapta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3. Başarıyı etkileyecek faktörleri yerinde gör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4. Bireyin eksik yönlerini ve nedenlerini belirle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5. Yetişme eksikliğini hizmetiçi eğitim yoluyla gider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6. Bireye yapılan yardımla, teftişe güven kazandır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7. Görevlerini daha yapmasına yardımcı ol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8. Bireylerin sosyal ve ekonomik haklarını koruma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9. Bireyin gelişimini sağlayacak amaçlar geliştirmek,</a:t>
            </a:r>
            <a:endParaRPr b="0" lang="en-US" sz="2600" spc="-1" strike="noStrike">
              <a:solidFill>
                <a:srgbClr val="3333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29516d"/>
                </a:solidFill>
                <a:latin typeface="Arial"/>
              </a:rPr>
              <a:t>10. Bireyin başarısını objektif olarak değerlendirmek</a:t>
            </a:r>
            <a:endParaRPr b="0" lang="en-US" sz="2600" spc="-1" strike="noStrike">
              <a:solidFill>
                <a:srgbClr val="3333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4:16:55Z</dcterms:created>
  <dc:creator>yagmur</dc:creator>
  <dc:description/>
  <dc:language>en-US</dc:language>
  <cp:lastModifiedBy>MyPC</cp:lastModifiedBy>
  <dcterms:modified xsi:type="dcterms:W3CDTF">2011-01-03T05:55:08Z</dcterms:modified>
  <cp:revision>19</cp:revision>
  <dc:subject/>
  <dc:title>Hdhsı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94391055</vt:lpwstr>
  </property>
</Properties>
</file>